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B11D-96B0-4FB9-AECB-98454F259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6E60-B239-4E8F-9C6C-D1BA6DC25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AF79-A086-437D-8B59-B5F42F891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C275-847A-4068-93D0-4E8A17317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F2B3-BAB1-4E0D-8BD7-7996449B9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06F4-1F41-4A52-B236-7C9DB799E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7892-E379-46D7-A699-673A48C78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AE41-7DBC-4C86-A4FC-804DC0CDC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5061-F701-4528-A3E7-5A3E0B559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2324-0BB8-4AC5-8A72-DC92D7B37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A073-3503-46AC-85A6-E709FBA2F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FE37-F0C4-4BF3-B6A0-7E9D5ECB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5CDF8-007F-476E-BABA-35F4BA21F77D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90840"/>
            <a:ext cx="8139240" cy="1582560"/>
          </a:xfrm>
          <a:prstGeom prst="rect">
            <a:avLst/>
          </a:prstGeom>
          <a:solidFill>
            <a:srgbClr val="00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8760" y="1914480"/>
            <a:ext cx="1942920" cy="4320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e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99000" y="1914480"/>
            <a:ext cx="1942920" cy="4320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e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699240" y="1914480"/>
            <a:ext cx="1943280" cy="4320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e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31800" y="2922480"/>
            <a:ext cx="360360" cy="358920"/>
          </a:xfrm>
          <a:prstGeom prst="rect">
            <a:avLst/>
          </a:prstGeom>
          <a:solidFill>
            <a:srgbClr val="3366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81200" y="2922480"/>
            <a:ext cx="360360" cy="358920"/>
          </a:xfrm>
          <a:prstGeom prst="rect">
            <a:avLst/>
          </a:prstGeom>
          <a:solidFill>
            <a:srgbClr val="3366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30600" y="2922480"/>
            <a:ext cx="360360" cy="358920"/>
          </a:xfrm>
          <a:prstGeom prst="rect">
            <a:avLst/>
          </a:prstGeom>
          <a:solidFill>
            <a:srgbClr val="3366cc"/>
          </a:solidFill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80000" y="2922480"/>
            <a:ext cx="360360" cy="358920"/>
          </a:xfrm>
          <a:prstGeom prst="rect">
            <a:avLst/>
          </a:prstGeom>
          <a:solidFill>
            <a:srgbClr val="3366cc"/>
          </a:solidFill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4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829040" y="2922480"/>
            <a:ext cx="360360" cy="358920"/>
          </a:xfrm>
          <a:prstGeom prst="rect">
            <a:avLst/>
          </a:prstGeom>
          <a:solidFill>
            <a:srgbClr val="3366cc"/>
          </a:solidFill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878440" y="2922480"/>
            <a:ext cx="360360" cy="358920"/>
          </a:xfrm>
          <a:prstGeom prst="rect">
            <a:avLst/>
          </a:prstGeom>
          <a:solidFill>
            <a:srgbClr val="3366cc"/>
          </a:solidFill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6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927840" y="2922480"/>
            <a:ext cx="360360" cy="358920"/>
          </a:xfrm>
          <a:prstGeom prst="rect">
            <a:avLst/>
          </a:prstGeom>
          <a:solidFill>
            <a:srgbClr val="3366cc"/>
          </a:solidFill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7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978680" y="2922480"/>
            <a:ext cx="360360" cy="358920"/>
          </a:xfrm>
          <a:prstGeom prst="rect">
            <a:avLst/>
          </a:prstGeom>
          <a:solidFill>
            <a:srgbClr val="3366cc"/>
          </a:solidFill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8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55640" y="3573360"/>
            <a:ext cx="1298520" cy="287280"/>
          </a:xfrm>
          <a:prstGeom prst="rect">
            <a:avLst/>
          </a:prstGeom>
          <a:solidFill>
            <a:srgbClr val="cc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attività non in presenz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90400" y="261000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2,5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28640" y="261000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2,5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68680" y="261000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2,5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54520" y="332892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6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41440" y="1914480"/>
            <a:ext cx="1800000" cy="4320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e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11280" y="1698480"/>
            <a:ext cx="0" cy="3311640"/>
          </a:xfrm>
          <a:prstGeom prst="line">
            <a:avLst/>
          </a:prstGeom>
          <a:ln w="9360">
            <a:solidFill>
              <a:srgbClr val="80808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48040" y="261000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2,5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88080" y="261000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2,5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27760" y="261000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2,5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867800" y="261000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2,5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2160" y="332892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6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31240" y="332892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6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491960" y="332892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6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25920" y="1698480"/>
            <a:ext cx="0" cy="3311640"/>
          </a:xfrm>
          <a:prstGeom prst="line">
            <a:avLst/>
          </a:prstGeom>
          <a:ln w="9360">
            <a:solidFill>
              <a:srgbClr val="80808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608880" y="1698480"/>
            <a:ext cx="0" cy="3311640"/>
          </a:xfrm>
          <a:prstGeom prst="line">
            <a:avLst/>
          </a:prstGeom>
          <a:ln w="9360">
            <a:solidFill>
              <a:srgbClr val="80808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708360" y="261000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2,5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05080" y="3857760"/>
            <a:ext cx="0" cy="53964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5840" y="4457880"/>
            <a:ext cx="1465560" cy="5508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tudio materi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requentazione For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roduzione Document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67160" y="3894120"/>
            <a:ext cx="0" cy="53964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707920" y="4494240"/>
            <a:ext cx="1465560" cy="5508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tudio materi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requentazione For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roduzione Document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54800" y="3894120"/>
            <a:ext cx="0" cy="53964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795560" y="4494240"/>
            <a:ext cx="1465560" cy="5508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tudio materi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requentazione For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roduzione Document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715160" y="3894120"/>
            <a:ext cx="0" cy="53964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956280" y="4494240"/>
            <a:ext cx="1465560" cy="5508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tudio materi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requentazione For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roduzione Document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72640" y="5108400"/>
            <a:ext cx="1288800" cy="5508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aboratori interatti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ltri materi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ltre attivit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8760" y="5877000"/>
            <a:ext cx="503280" cy="288720"/>
          </a:xfrm>
          <a:prstGeom prst="rect">
            <a:avLst/>
          </a:prstGeom>
          <a:solidFill>
            <a:srgbClr val="3366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06560" y="5877000"/>
            <a:ext cx="124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tività in presenz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28760" y="6237360"/>
            <a:ext cx="503280" cy="288720"/>
          </a:xfrm>
          <a:prstGeom prst="rect">
            <a:avLst/>
          </a:prstGeom>
          <a:solidFill>
            <a:srgbClr val="cc0000"/>
          </a:solidFill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06560" y="6237360"/>
            <a:ext cx="270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tività non in  presenza (online – domestic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747280" y="2909880"/>
            <a:ext cx="360360" cy="358920"/>
          </a:xfrm>
          <a:prstGeom prst="rect">
            <a:avLst/>
          </a:prstGeom>
          <a:solidFill>
            <a:srgbClr val="3366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-720" y="0"/>
            <a:ext cx="50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PROPOSTA ORGANIZZAZIONE DEL COR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rId1" action="ppaction://hlinksldjump"/>
          </p:cNvPr>
          <p:cNvSpPr/>
          <p:nvPr/>
        </p:nvSpPr>
        <p:spPr>
          <a:xfrm>
            <a:off x="108000" y="2922480"/>
            <a:ext cx="360360" cy="358920"/>
          </a:xfrm>
          <a:prstGeom prst="rect">
            <a:avLst/>
          </a:prstGeom>
          <a:solidFill>
            <a:srgbClr val="3366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" y="1338120"/>
            <a:ext cx="9144000" cy="0"/>
          </a:xfrm>
          <a:prstGeom prst="line">
            <a:avLst/>
          </a:prstGeom>
          <a:ln w="9360">
            <a:solidFill>
              <a:srgbClr val="80808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160" y="1193760"/>
            <a:ext cx="431640" cy="289080"/>
          </a:xfrm>
          <a:prstGeom prst="rect">
            <a:avLst/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6/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22440" y="1193760"/>
            <a:ext cx="431640" cy="289080"/>
          </a:xfrm>
          <a:prstGeom prst="rect">
            <a:avLst/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23/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39960" y="1193760"/>
            <a:ext cx="432000" cy="289080"/>
          </a:xfrm>
          <a:prstGeom prst="rect">
            <a:avLst/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5/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00520" y="1193760"/>
            <a:ext cx="431640" cy="289080"/>
          </a:xfrm>
          <a:prstGeom prst="rect">
            <a:avLst/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29/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859280" y="1193760"/>
            <a:ext cx="432000" cy="289080"/>
          </a:xfrm>
          <a:prstGeom prst="rect">
            <a:avLst/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6/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919840" y="1193760"/>
            <a:ext cx="431640" cy="289080"/>
          </a:xfrm>
          <a:prstGeom prst="rect">
            <a:avLst/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20/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978600" y="1193760"/>
            <a:ext cx="432000" cy="289080"/>
          </a:xfrm>
          <a:prstGeom prst="rect">
            <a:avLst/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27/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039160" y="1193760"/>
            <a:ext cx="431640" cy="289080"/>
          </a:xfrm>
          <a:prstGeom prst="rect">
            <a:avLst/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1/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723160" y="1193760"/>
            <a:ext cx="432000" cy="289080"/>
          </a:xfrm>
          <a:prstGeom prst="rect">
            <a:avLst/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8/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03520" y="1193760"/>
            <a:ext cx="431640" cy="289080"/>
          </a:xfrm>
          <a:prstGeom prst="rect">
            <a:avLst/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8/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88" idx="2"/>
            <a:endCxn id="96" idx="2"/>
          </p:cNvCxnSpPr>
          <p:nvPr/>
        </p:nvCxnSpPr>
        <p:spPr>
          <a:xfrm rot="16200000">
            <a:off x="1378440" y="942120"/>
            <a:ext cx="360" cy="1081440"/>
          </a:xfrm>
          <a:prstGeom prst="bentConnector3">
            <a:avLst>
              <a:gd name="adj1" fmla="val 68200000"/>
            </a:avLst>
          </a:prstGeom>
          <a:ln w="9360">
            <a:solidFill>
              <a:srgbClr val="808080"/>
            </a:solidFill>
            <a:miter/>
          </a:ln>
        </p:spPr>
      </p:cxnSp>
      <p:sp>
        <p:nvSpPr>
          <p:cNvPr id="98" name=""/>
          <p:cNvSpPr/>
          <p:nvPr/>
        </p:nvSpPr>
        <p:spPr>
          <a:xfrm>
            <a:off x="982800" y="1482840"/>
            <a:ext cx="775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2 settima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"/>
          <p:cNvCxnSpPr>
            <a:stCxn id="96" idx="0"/>
            <a:endCxn id="89" idx="0"/>
          </p:cNvCxnSpPr>
          <p:nvPr/>
        </p:nvCxnSpPr>
        <p:spPr>
          <a:xfrm rot="16200000">
            <a:off x="2437560" y="675360"/>
            <a:ext cx="360" cy="1037160"/>
          </a:xfrm>
          <a:prstGeom prst="bentConnector3">
            <a:avLst>
              <a:gd name="adj1" fmla="val -68400000"/>
            </a:avLst>
          </a:prstGeom>
          <a:ln w="9360">
            <a:solidFill>
              <a:srgbClr val="808080"/>
            </a:solidFill>
            <a:miter/>
          </a:ln>
        </p:spPr>
      </p:cxnSp>
      <p:sp>
        <p:nvSpPr>
          <p:cNvPr id="100" name=""/>
          <p:cNvSpPr/>
          <p:nvPr/>
        </p:nvSpPr>
        <p:spPr>
          <a:xfrm>
            <a:off x="2062080" y="762120"/>
            <a:ext cx="775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1 settima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/>
          <p:nvPr/>
        </p:nvCxnSpPr>
        <p:spPr>
          <a:xfrm flipH="1" rot="16200000">
            <a:off x="3464640" y="961920"/>
            <a:ext cx="2160" cy="1081800"/>
          </a:xfrm>
          <a:prstGeom prst="bentConnector3">
            <a:avLst>
              <a:gd name="adj1" fmla="val 13200000"/>
            </a:avLst>
          </a:prstGeom>
          <a:ln w="9360">
            <a:solidFill>
              <a:srgbClr val="808080"/>
            </a:solidFill>
            <a:miter/>
          </a:ln>
        </p:spPr>
      </p:cxnSp>
      <p:sp>
        <p:nvSpPr>
          <p:cNvPr id="102" name=""/>
          <p:cNvSpPr/>
          <p:nvPr/>
        </p:nvSpPr>
        <p:spPr>
          <a:xfrm>
            <a:off x="3070080" y="1482840"/>
            <a:ext cx="775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2 settima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"/>
          <p:cNvCxnSpPr/>
          <p:nvPr/>
        </p:nvCxnSpPr>
        <p:spPr>
          <a:xfrm flipH="1" rot="16200000">
            <a:off x="5553720" y="961920"/>
            <a:ext cx="2160" cy="1081800"/>
          </a:xfrm>
          <a:prstGeom prst="bentConnector3">
            <a:avLst>
              <a:gd name="adj1" fmla="val 13200000"/>
            </a:avLst>
          </a:prstGeom>
          <a:ln w="9360">
            <a:solidFill>
              <a:srgbClr val="808080"/>
            </a:solidFill>
            <a:miter/>
          </a:ln>
        </p:spPr>
      </p:cxnSp>
      <p:sp>
        <p:nvSpPr>
          <p:cNvPr id="104" name=""/>
          <p:cNvSpPr/>
          <p:nvPr/>
        </p:nvSpPr>
        <p:spPr>
          <a:xfrm>
            <a:off x="5159520" y="1482840"/>
            <a:ext cx="775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2 settima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"/>
          <p:cNvCxnSpPr/>
          <p:nvPr/>
        </p:nvCxnSpPr>
        <p:spPr>
          <a:xfrm flipH="1" rot="16200000">
            <a:off x="7714440" y="961920"/>
            <a:ext cx="2160" cy="1081800"/>
          </a:xfrm>
          <a:prstGeom prst="bentConnector3">
            <a:avLst>
              <a:gd name="adj1" fmla="val 13200000"/>
            </a:avLst>
          </a:prstGeom>
          <a:ln w="9360">
            <a:solidFill>
              <a:srgbClr val="808080"/>
            </a:solidFill>
            <a:miter/>
          </a:ln>
        </p:spPr>
      </p:cxnSp>
      <p:sp>
        <p:nvSpPr>
          <p:cNvPr id="106" name=""/>
          <p:cNvSpPr/>
          <p:nvPr/>
        </p:nvSpPr>
        <p:spPr>
          <a:xfrm>
            <a:off x="7319880" y="1482840"/>
            <a:ext cx="775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2 settima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/>
          <p:nvPr/>
        </p:nvCxnSpPr>
        <p:spPr>
          <a:xfrm flipH="1" rot="16200000">
            <a:off x="4525560" y="656280"/>
            <a:ext cx="2520" cy="1037160"/>
          </a:xfrm>
          <a:prstGeom prst="bentConnector3">
            <a:avLst>
              <a:gd name="adj1" fmla="val -13200000"/>
            </a:avLst>
          </a:prstGeom>
          <a:ln w="9360">
            <a:solidFill>
              <a:srgbClr val="808080"/>
            </a:solidFill>
            <a:miter/>
          </a:ln>
        </p:spPr>
      </p:cxnSp>
      <p:sp>
        <p:nvSpPr>
          <p:cNvPr id="108" name=""/>
          <p:cNvSpPr/>
          <p:nvPr/>
        </p:nvSpPr>
        <p:spPr>
          <a:xfrm>
            <a:off x="4151160" y="762120"/>
            <a:ext cx="775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1 settima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rot="16200000">
            <a:off x="6635520" y="655920"/>
            <a:ext cx="2520" cy="1037520"/>
          </a:xfrm>
          <a:prstGeom prst="bentConnector3">
            <a:avLst>
              <a:gd name="adj1" fmla="val -13200000"/>
            </a:avLst>
          </a:prstGeom>
          <a:ln w="9360">
            <a:solidFill>
              <a:srgbClr val="808080"/>
            </a:solidFill>
            <a:miter/>
          </a:ln>
        </p:spPr>
      </p:cxnSp>
      <p:sp>
        <p:nvSpPr>
          <p:cNvPr id="110" name=""/>
          <p:cNvSpPr/>
          <p:nvPr/>
        </p:nvSpPr>
        <p:spPr>
          <a:xfrm>
            <a:off x="6261120" y="762120"/>
            <a:ext cx="775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1 settima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201160" y="749160"/>
            <a:ext cx="775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1 settima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"/>
          <p:cNvCxnSpPr>
            <a:stCxn id="94" idx="0"/>
            <a:endCxn id="95" idx="0"/>
          </p:cNvCxnSpPr>
          <p:nvPr/>
        </p:nvCxnSpPr>
        <p:spPr>
          <a:xfrm rot="16200000">
            <a:off x="8596800" y="851400"/>
            <a:ext cx="360" cy="684720"/>
          </a:xfrm>
          <a:prstGeom prst="bentConnector3">
            <a:avLst>
              <a:gd name="adj1" fmla="val -68400000"/>
            </a:avLst>
          </a:prstGeom>
          <a:ln w="9360">
            <a:solidFill>
              <a:srgbClr val="808080"/>
            </a:solidFill>
            <a:miter/>
          </a:ln>
        </p:spPr>
      </p:cxnSp>
      <p:cxnSp>
        <p:nvCxnSpPr>
          <p:cNvPr id="113" name=""/>
          <p:cNvCxnSpPr>
            <a:stCxn id="87" idx="0"/>
            <a:endCxn id="88" idx="0"/>
          </p:cNvCxnSpPr>
          <p:nvPr/>
        </p:nvCxnSpPr>
        <p:spPr>
          <a:xfrm rot="16200000">
            <a:off x="532440" y="888120"/>
            <a:ext cx="360" cy="611640"/>
          </a:xfrm>
          <a:prstGeom prst="bentConnector3">
            <a:avLst>
              <a:gd name="adj1" fmla="val -68400000"/>
            </a:avLst>
          </a:prstGeom>
          <a:ln w="9360">
            <a:solidFill>
              <a:srgbClr val="808080"/>
            </a:solidFill>
            <a:miter/>
          </a:ln>
        </p:spPr>
      </p:cxnSp>
      <p:sp>
        <p:nvSpPr>
          <p:cNvPr id="114" name=""/>
          <p:cNvSpPr/>
          <p:nvPr/>
        </p:nvSpPr>
        <p:spPr>
          <a:xfrm>
            <a:off x="119160" y="762120"/>
            <a:ext cx="775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1 settima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59920" y="5108400"/>
            <a:ext cx="1288800" cy="5508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aboratori interatti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ltri materi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ltre attivit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947560" y="5108400"/>
            <a:ext cx="1288800" cy="5508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aboratori interatti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ltri materi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ltre attivit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7720" y="3570120"/>
            <a:ext cx="1298520" cy="287640"/>
          </a:xfrm>
          <a:prstGeom prst="rect">
            <a:avLst/>
          </a:pr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attività non in presenz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83040" y="3570120"/>
            <a:ext cx="1298520" cy="287640"/>
          </a:xfrm>
          <a:prstGeom prst="rect">
            <a:avLst/>
          </a:pr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attività non in presenz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064280" y="3570120"/>
            <a:ext cx="1298520" cy="287640"/>
          </a:xfrm>
          <a:prstGeom prst="rect">
            <a:avLst/>
          </a:pr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attività non in presenz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411280" y="2492280"/>
            <a:ext cx="6264360" cy="1584360"/>
          </a:xfrm>
          <a:prstGeom prst="rect">
            <a:avLst/>
          </a:prstGeom>
          <a:gradFill rotWithShape="0">
            <a:gsLst>
              <a:gs pos="0">
                <a:srgbClr val="bbe0e3">
                  <a:alpha val="41176"/>
                </a:srgbClr>
              </a:gs>
              <a:gs pos="100000">
                <a:srgbClr val="566768">
                  <a:alpha val="38039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879480" y="928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00360" y="549360"/>
            <a:ext cx="3724200" cy="731880"/>
          </a:xfrm>
          <a:prstGeom prst="rect">
            <a:avLst/>
          </a:prstGeom>
          <a:solidFill>
            <a:srgbClr val="3366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tes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ERTURA DEL COR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>
            <a:hlinkClick r:id="rId1" action="ppaction://hlinksldjump"/>
          </p:cNvPr>
          <p:cNvSpPr/>
          <p:nvPr/>
        </p:nvSpPr>
        <p:spPr>
          <a:xfrm>
            <a:off x="395280" y="476280"/>
            <a:ext cx="360360" cy="358920"/>
          </a:xfrm>
          <a:prstGeom prst="rect">
            <a:avLst/>
          </a:prstGeom>
          <a:solidFill>
            <a:srgbClr val="3366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932360" y="2133720"/>
            <a:ext cx="3527280" cy="3660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oscenza del grup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sentazione del piano di form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presentazione dell’architettura della piattafor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formazioni tecniche ed organizzative del percor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agine bisogni formativi ed aspett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eazione della classe virtu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00000" y="2133720"/>
            <a:ext cx="3095640" cy="11912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UNZIONI E RUO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trut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ganizza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ima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6920" y="907920"/>
            <a:ext cx="360360" cy="358920"/>
          </a:xfrm>
          <a:prstGeom prst="rect">
            <a:avLst/>
          </a:prstGeom>
          <a:solidFill>
            <a:srgbClr val="3366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700360" y="836640"/>
            <a:ext cx="4967280" cy="731880"/>
          </a:xfrm>
          <a:prstGeom prst="rect">
            <a:avLst/>
          </a:prstGeom>
          <a:solidFill>
            <a:srgbClr val="3366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tes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MO INCONTRO DI SEZI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859280" y="2205000"/>
            <a:ext cx="3527640" cy="2562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vigazione in piattafor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sentazione e riflessione della sezi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mazione dei grup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ostazione dell’ambiente di lavoro in lo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porto al lavoro di grup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00000" y="2133720"/>
            <a:ext cx="3095640" cy="17398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UNZIONI E RUO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strut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Organizza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Animatore/modera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acilita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700360" y="836640"/>
            <a:ext cx="4967280" cy="731880"/>
          </a:xfrm>
          <a:prstGeom prst="rect">
            <a:avLst/>
          </a:prstGeom>
          <a:solidFill>
            <a:srgbClr val="3366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tes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TIVITA’ NON IN PRESENZ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859280" y="2205000"/>
            <a:ext cx="3527640" cy="22885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nitoraggio della classe virtu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um di cla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eedback sui materiali prodotti dai corsi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gnalazione di riso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00000" y="2133720"/>
            <a:ext cx="3095640" cy="20142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UNZIONI E RUO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Animatore/moderatore della classe virtu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acilita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ounce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caffolding (sostenito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Mediatore di riso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4360" y="907920"/>
            <a:ext cx="1298520" cy="287640"/>
          </a:xfrm>
          <a:prstGeom prst="rect">
            <a:avLst/>
          </a:prstGeom>
          <a:solidFill>
            <a:srgbClr val="cc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attività non in presenz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700360" y="836640"/>
            <a:ext cx="5400720" cy="731880"/>
          </a:xfrm>
          <a:prstGeom prst="rect">
            <a:avLst/>
          </a:prstGeom>
          <a:solidFill>
            <a:srgbClr val="3366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tes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O INCONTRO DI SEZI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59280" y="2205000"/>
            <a:ext cx="3527640" cy="20142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porto alla presentazione del lavoro dei grup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rio di bor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duzione sintesi del lavoro dei grup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00000" y="2133720"/>
            <a:ext cx="3095640" cy="17398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UNZIONI E RUO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strut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Organizza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Animatore/modera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acilita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oordina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00000" y="907920"/>
            <a:ext cx="360360" cy="357480"/>
          </a:xfrm>
          <a:prstGeom prst="rect">
            <a:avLst/>
          </a:prstGeom>
          <a:solidFill>
            <a:srgbClr val="3366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124000" y="836640"/>
            <a:ext cx="5761080" cy="863640"/>
          </a:xfrm>
          <a:prstGeom prst="rect">
            <a:avLst/>
          </a:prstGeom>
          <a:solidFill>
            <a:srgbClr val="3366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tes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MINARIO DI SINTE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932360" y="2997360"/>
            <a:ext cx="3527280" cy="17398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gett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sentazione sintesi dei lavori di grup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ordinamento dell’incon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55640" y="2924280"/>
            <a:ext cx="3095640" cy="11912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UNZIONI E RUO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ganizza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imatore/modera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ordinato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71640" y="907920"/>
            <a:ext cx="360360" cy="358920"/>
          </a:xfrm>
          <a:prstGeom prst="rect">
            <a:avLst/>
          </a:prstGeom>
          <a:solidFill>
            <a:srgbClr val="3366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900000" y="1268280"/>
            <a:ext cx="6696360" cy="41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 questo è il ruolo e le azioni, quali sono le strategie che utiliz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sso a fuoco tipologie di form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rtamenti funzioni, a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zio di un ragionamento assi di formazione degli e-tu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enuti della formazione Univers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e si fa i formatori attraverso ricerca-azione: conduzione dei gruppi, comunicazione, materiali, spazi di condivisione, e-tutor come soggetti attivi della formazion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9T11:57:19Z</dcterms:created>
  <dc:creator>Antonella Piccolo</dc:creator>
  <dc:description/>
  <dc:language>en-US</dc:language>
  <cp:lastModifiedBy>Antonella Piccolo</cp:lastModifiedBy>
  <dcterms:modified xsi:type="dcterms:W3CDTF">2005-02-26T11:25:38Z</dcterms:modified>
  <cp:revision>6</cp:revision>
  <dc:subject/>
  <dc:title>Diapositiva 1</dc:title>
</cp:coreProperties>
</file>